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1AC-9D38-40DE-BF65-CAAD1336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5BA-B55A-40A3-B66D-A04D9315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E11-44F9-4204-B354-1D4994CF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53E-5BBE-4D61-9D74-67B79DC3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D85-AF11-466A-8D9D-64A48778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712-57B4-4D2D-B363-B14BDE6F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4F8-FC07-4F2F-ADB1-4D5E781F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EA1-D654-4660-9211-6EB8B091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6E2-71F9-4C7A-A532-408D2575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8F8-80C1-4D6A-BCC4-4E41C4BA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7F6-ABB8-4A35-A825-46097CC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5DC-5D79-4EEA-A9BC-6D6FDBD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B60D-9B67-4175-A642-B37D10E6F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MA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64008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NVENIOS COL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060640"/>
            <a:ext cx="7488000" cy="41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GOCIACIÓN COL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NIDO DE LOS CONVENIOS COL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ÁMBITO DE LOS CONVENIOS CO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ITIMACIÓN PARA NEG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MITACIÓN DE LOS CONVENIOS CO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ACIÓN DE LOS CONVENIOS CO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HESIÓN Y EXTENSIÓN DE LOS CONVEN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476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ÁUSULA DE DESCUELGUE SALA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844640"/>
            <a:ext cx="89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333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HESIÓN Y EXTENSIÓN DE LOS CONVENI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052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convenio puede aplicarse a trabajadores no incluidos en una negociación, medi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141720"/>
            <a:ext cx="417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s partes legitimadas para negociar un convenio propio pueden adherirse, de común acuerdo, a la totalidad de un convenio colectivo en vigor, siempre que no estén afectadas por u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897560"/>
            <a:ext cx="3311280" cy="963360"/>
          </a:xfrm>
          <a:prstGeom prst="downArrowCallout">
            <a:avLst>
              <a:gd name="adj1" fmla="val 85938"/>
              <a:gd name="adj2" fmla="val 8593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dhesión voluntaria a un conve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030760"/>
            <a:ext cx="3311640" cy="552600"/>
          </a:xfrm>
          <a:prstGeom prst="downArrowCallout">
            <a:avLst>
              <a:gd name="adj1" fmla="val 149835"/>
              <a:gd name="adj2" fmla="val 149821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Extensión de un conve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997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Ministerio de Trabajo puede extender las disposiciones de un convenio colectivo en vigor a determinadas empresas y trabajadores siempre que existan dificultades para negociar su convenio, o cuando se den circunstancias sociales y económicas importa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66100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adhesión ha de comunicarse a la autoridad laboral competente para que proceda a su registro, es decir, el Ministerio de Trabajo e inmigración, o el órgano correspondiente a la comunidad autó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3280" y="260280"/>
            <a:ext cx="712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CIACIÓN COLE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765000"/>
            <a:ext cx="864252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nstitución española en su Art. 37.1 dice “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a ley garantizará el derecho a la negociación colectiva laboral entre los representantes de los trabajadores y empresarios, así como la fuerza vinculante de los conven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Estatuto de los Trabajadores (ET) ha desarrollado la negociación colectiva para garantizar  que los empresarios y trabajadores regulen las condiciones de trabajo y de productividad; igualmente la paz laboral a través de las obligaciones que se pacten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e el convenio colec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o un acuerdo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escrito libremente negociado entre los representantes de los trabajadores y empresarios para regular las condiciones de trabajo y las normas de convivencia laboral en las empres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5705640"/>
            <a:ext cx="5905440" cy="1152360"/>
          </a:xfrm>
          <a:prstGeom prst="downArrowCallout">
            <a:avLst>
              <a:gd name="adj1" fmla="val 128128"/>
              <a:gd name="adj2" fmla="val 12811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regulan las siguientes mater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653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Convenios Colectivos son vinculantes para las partes y las condiciones pactadas no podrán ser modificadas por contrato individual, salvo para mejorar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2496600"/>
            <a:ext cx="17640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MB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260280"/>
            <a:ext cx="1800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1640" y="189000"/>
            <a:ext cx="2950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ios princip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1557360"/>
            <a:ext cx="180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90792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r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an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teg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360" y="3068640"/>
            <a:ext cx="180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2997360"/>
            <a:ext cx="30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Órganos de re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38606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esgos 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37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os preven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5084640"/>
            <a:ext cx="180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sten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as volu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6165720"/>
            <a:ext cx="180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73408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das de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igaciones dirigid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la paz labo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404640"/>
            <a:ext cx="0" cy="604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40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1773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32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6836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645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404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17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3284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59280" y="42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6308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79640" y="321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65360"/>
            <a:ext cx="172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LOS CONVENIOS COL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19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54936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áusulas que regulan el convenio en sentido general y su cumplimiento es obligatorio para ambas par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43640" y="476280"/>
            <a:ext cx="2952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icio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ificación de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rn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uridad e Hi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4797360"/>
            <a:ext cx="187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L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8000" y="4724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áusulas que aseguran el cumplimiento del conve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64360" y="4508640"/>
            <a:ext cx="2879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imientos de denu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rantizar la paz laboral al renunciar los trabajadores al derecho a la huelg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549360"/>
            <a:ext cx="504720" cy="5975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155520 h 5975280"/>
              <a:gd name="textAreaBottom" fmla="*/ 5819760 h 597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549360"/>
            <a:ext cx="73080" cy="3311280"/>
          </a:xfrm>
          <a:custGeom>
            <a:avLst/>
            <a:gdLst>
              <a:gd name="textAreaLeft" fmla="*/ 46800 w 73080"/>
              <a:gd name="textAreaRight" fmla="*/ 73440 w 73080"/>
              <a:gd name="textAreaTop" fmla="*/ 86040 h 3311280"/>
              <a:gd name="textAreaBottom" fmla="*/ 322524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476280"/>
            <a:ext cx="361800" cy="3384360"/>
          </a:xfrm>
          <a:custGeom>
            <a:avLst/>
            <a:gdLst>
              <a:gd name="textAreaLeft" fmla="*/ 231120 w 361800"/>
              <a:gd name="textAreaRight" fmla="*/ 362160 w 36180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22"/>
                </a:lnTo>
                <a:cubicBezTo>
                  <a:pt x="10800" y="10022"/>
                  <a:pt x="5400" y="10922"/>
                  <a:pt x="0" y="10922"/>
                </a:cubicBezTo>
                <a:cubicBezTo>
                  <a:pt x="5400" y="10922"/>
                  <a:pt x="10800" y="11822"/>
                  <a:pt x="10800" y="127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4365720"/>
            <a:ext cx="360360" cy="1727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3"/>
                </a:lnTo>
                <a:cubicBezTo>
                  <a:pt x="10800" y="9523"/>
                  <a:pt x="5400" y="10423"/>
                  <a:pt x="0" y="10423"/>
                </a:cubicBezTo>
                <a:cubicBezTo>
                  <a:pt x="5400" y="10423"/>
                  <a:pt x="10800" y="11323"/>
                  <a:pt x="10800" y="122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4437000"/>
            <a:ext cx="360360" cy="18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IDO DE LOS CONVENIOS COLECTIV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34936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contenido normativo es fuente de derecho del trabajo y su cumplimiento es obligatorio para ambas p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11280" y="404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ET establece que los convenios colectivos deben tener el contenido mínim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84280"/>
            <a:ext cx="7777440" cy="48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ar las partes que lo conciertan (representantes de los trabajadores y empresar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jar el ámbito personal, funcional, territorial y temp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ar cuáles son las condiciones y procedimientos que se deben seguir en caso de empresas incluidas en el convenio (de ámbito superior a la empresa) para la no aplicación del régimen sala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as y condiciones de la denuncia del convenio, como plazo de preavi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ación de una comisión paritaria de representación de las partes para resolver cualquier cuest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ar los procedimientos para resolver las discrepancias de la comisión pari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6920" y="18900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MBITO DE LOS CONVENIOS COL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907920"/>
            <a:ext cx="882000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Ámbito pers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Los convenios obligan a todos los empresarios y trabajadores de la rama profesional o sector económico al que pertenecen las empresas que negocian el conven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 embargo, pueden celebrarse convenios para determinados trabajadores como, por ejemplo, especialistas en una determinada materia, directivos, etc., estos convenios se denominan CONVENIOS FRAN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Ámbito territorial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ace referencia a la extensión geográfica del convenio por ejemplo, convenios Nacionales, de Comunidad Autónoma, Interprovincial, provincial y loc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Ámbito funcional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 refiere a la actividad económica a la que se dedican las empresas de un determinado ámbito territorial, Ejemplo: Convenio funcional de la Banca, Convenio Comercio Minorista en Andalucía, Convenio de Hostelería de Mála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Ámbito temporal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  refiere al periodo de vigencia del convenio. Las partes negociadoras están capacitadas para fijar la vigencia de cada conven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1640" y="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ITIMACIÓN PARA NEGO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05680"/>
            <a:ext cx="2916360" cy="2014560"/>
          </a:xfrm>
          <a:prstGeom prst="rightArrowCallout">
            <a:avLst>
              <a:gd name="adj1" fmla="val 25002"/>
              <a:gd name="adj2" fmla="val 15153"/>
              <a:gd name="adj3" fmla="val 24127"/>
              <a:gd name="adj4" fmla="val 78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VENIOS DE EMPRESA O ÁMBITO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nº de representantes es de 12 máximo por cada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404640"/>
            <a:ext cx="6084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 PARTE DE LOS TRABAJ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ité de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egados de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ciones Sind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 PARTE DEL EMPRES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empresario o representantes leg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780360"/>
            <a:ext cx="2916360" cy="2014560"/>
          </a:xfrm>
          <a:prstGeom prst="rightArrowCallout">
            <a:avLst>
              <a:gd name="adj1" fmla="val 25002"/>
              <a:gd name="adj2" fmla="val 15153"/>
              <a:gd name="adj3" fmla="val 24127"/>
              <a:gd name="adj4" fmla="val 78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VENIOS DE ÁMBITO SUPERIOR A LA EMR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nº de representantes es de 15 máximo por cada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2932560"/>
            <a:ext cx="6084720" cy="378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 PARTE DE LOS TRABAJ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dicatos más representativos a nivel est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dicatos más representativos de Comunidad Autó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sindicatos que cuenten con un mínimo del 10% de los miembros del comité de empresa o delegados de personal en el ámbito geográfico y funcional del conven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 PARTE DEL EMPRES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s asociaciones empresariales en el ámbito geográfico y funcional del convenio cuenten con un mínimo del 10% de los empresarios y siempre que den ocupación a igual porcentaje de trabaj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26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MITACIÓN DE LOS CONVENIOS COL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97000"/>
            <a:ext cx="19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765000"/>
            <a:ext cx="723600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de las partes realiza una propuesta por escrito expresando los ámbitos del convenio y las materias objeto de la neg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envía una copia de la comunicación a la autoridad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uesta de la otra parte en el plazo de un m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5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GO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2852640"/>
            <a:ext cx="723600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egociación de buena 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cuerdos por mayoría de amba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no hay acuerdo se prorroga el contenido normativo del convenio anterior y pierde su vigencia el contenido oblig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24280"/>
            <a:ext cx="16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IST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Ó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4724280"/>
            <a:ext cx="7236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istro ante la autoridad laboral en el plazo de 15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ósito Servicio de Mediación, Arbitraje y conciliación (S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94216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ACIÓN Y  ENTRADA EN VIG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6078600"/>
            <a:ext cx="716436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ación en el BOE o en el Boletín Oficial de Provi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rada en vigor en la fecha que establezcan las par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333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RACIÓN DE LOS CONVENIOS COLE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125360"/>
            <a:ext cx="89647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s partes negociadoras establecen la duración de los conve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puede pactar distintos periodos de vigencia para cada materia dentro del mismo convenio. Por ejemplo, la duración fijada para el convenio puede ser de 3 años, pero con una revisión anual de los salarios de acuerdo con I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os convenios se puede establecer la denuncia automática. También se pueden establecer mínimos de preaviso para denunciar los conven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alvo pacto en contra, los convenios colectivos se prorrogan de año en año si no media denuncia expresa de las par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vez denunciado un convenio y hasta que no se logre acuerdo expreso, perderán vigencia las cláusulas obligacionales, es decir aquellas referidas a las obligaciones que asumen las partes para garantizar la eficacia  del convenio y la paz entre ellas, sin embargo, las cláusulas de contenido normativo se mantienen en vig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nuevo convenio deroga al anterior, salvo los pactos que expresamente se manteng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22:56:23Z</dcterms:created>
  <dc:creator>Acer Aspire</dc:creator>
  <dc:description/>
  <dc:language>en-US</dc:language>
  <cp:lastModifiedBy>Acer Aspire</cp:lastModifiedBy>
  <dcterms:modified xsi:type="dcterms:W3CDTF">2011-01-18T22:59:50Z</dcterms:modified>
  <cp:revision>13</cp:revision>
  <dc:subject/>
  <dc:title>TEMA 11</dc:title>
</cp:coreProperties>
</file>